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96B-CCBE-4413-A387-54782E90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111-CA23-45D0-98C4-77BE604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A5C-78A6-4200-879D-36F26CA5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F43-5CB3-489A-BEF3-81E8277E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74F8-C96E-420E-B184-FA4F510B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6CE3-BDC8-4E0D-80BF-4DF53DA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4C70-5EBF-48E3-8C81-A2C62E71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72D3-F203-44E0-8220-77F2286E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7EE5-2899-4C4A-8527-EA062CF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C6A7-7880-48A6-8E7C-9B46D09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0B69-B126-4FD5-9159-28B62B2B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CFE-397D-4D5A-964D-509ACD4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3C29-BFC4-4C7B-9F14-7BDB93A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3A2-0D28-4855-B55A-3972F02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3DCA-D4ED-4102-A0E8-D3E077CF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5FE-C029-4F0B-B63C-14CBC76C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CD1-9D40-43D5-B30A-618A90C6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D9E-82B3-47D2-ADFE-F1EBAB0E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B92-EBB7-4787-9ECE-7D3AB809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29B-B7B8-4335-8FB2-5D7F3AB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676-C48B-4CD2-8AC7-51DA7D5C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8B1-2D62-4E3B-857B-BDBEB7BD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AC8-F1CF-4B3D-9073-47CA093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D7D-F919-4903-A6CB-FB5932FE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6045-76D4-489D-8497-768373042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9156-8385-4CF7-8837-92C6FA8C3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لربّ فإنّهُ صالحٌ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الهة وربّ الأرباب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صانع المعجزات العظ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ه والسماوات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اسط الأرض على المياه ولصانع النيرات العظيمة وحده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نع الشمس لتسود في النهار والقمر والكواكب لتسود في الليل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72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شقّ البحر الأحمر الى شطرين واقتاد شعبه في وسطه وفي البرية.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 الربّ ذكرنا في مذلّتن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لَّصنا من أعدائنا.</a:t>
            </a:r>
            <a:endParaRPr b="1" lang="en-US" sz="7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يرزق كلّ جسد طعامه</a:t>
            </a:r>
            <a:r>
              <a:rPr b="1" lang="ar-SA" sz="87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br>
              <a:rPr sz="87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سماء سبّحوه ومجّدوه إلى الأبد.</a:t>
            </a:r>
            <a:endParaRPr b="1" lang="en-US" sz="87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Charbel Azar</cp:lastModifiedBy>
  <dcterms:modified xsi:type="dcterms:W3CDTF">2003-01-25T11:58:13Z</dcterms:modified>
  <cp:revision>1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